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8EE-EB0F-4668-8B32-32FD6670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0C3-BAEB-47A6-AEE1-C7522E4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0EE-9D3A-41A4-BBFE-7857FB6A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5D0-D977-4171-86DC-98F13DF0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39B8-6E93-4AFC-86DC-DF0AB21C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73A0-77DE-4CA6-B8A1-BD63925B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80AF-89AB-4B45-904B-6DAD40D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F035-46B1-4903-86C0-292100AC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A022-5113-4224-9D6B-A73CB03E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B80D-3CF7-4C6A-8D72-3AE784B9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104-B684-4C61-82B3-AAC3CD0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4DB-3631-4A89-BB0A-7DA34495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CB17-899C-4C42-B695-55F36A8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A320-5FD0-403A-8CF5-2BFCC41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19B5-318D-4367-A478-F061AFBC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E431-452C-466D-9869-12E8861C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00D2-44C2-4CB6-B156-1EC89A8B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657-6819-4DAD-854C-945E3EF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1D9-D51D-4693-885F-8B1F5791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78E-BA8C-4550-B2FE-ADA060BF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76B-37CC-4700-883C-223BE85F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37D-F992-4A43-80C0-12BD0126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F5A-8ABD-46ED-B541-0FD7422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1D9-AAB2-4D33-A997-B508D01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6642-3DA8-4653-A1B0-AEAFC1456A1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2278-6D32-4E91-950B-22381374030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Dangerous Game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y Richard Connel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ome things to know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33" name="Object 1029"/>
          <p:cNvGraphicFramePr/>
          <p:nvPr/>
        </p:nvGraphicFramePr>
        <p:xfrm>
          <a:off x="1143000" y="2514600"/>
          <a:ext cx="15462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15462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DO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e would of froze during the blizzard but they seen an empty house that protected them from the biting winds coming off of the appalachian mountain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Lee was watching the movie the sixth sense-at least I think he said that-when the video player stopped working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alogies-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andpaper:smooth:: mill: ________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mnesia :remember::______: sleep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gend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cuss homework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gin sto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o ques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eshado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ive hints about future ev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mager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tails that appeal to the five sens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otif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ttern of images or symbo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algn="ctr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 this story darkness is the moti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llus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ference to a famous work of art, literature, music, etc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yperbol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treme exaggeration for effec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mat for the Plot Diagra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1447920" y="5486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3429000" y="3124080"/>
            <a:ext cx="152388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952880" y="3124080"/>
            <a:ext cx="13716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6324480" y="54864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371600" y="57150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xposition --introduces the characters, background and set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038480" y="457200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flict -- struggle between opposing fo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676520" y="33526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ising Action -- three statements that summarize the s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962520" y="220968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x-- point where the protagonist cha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791320" y="297180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alling action -- one statement about what leads to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400800" y="46483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solution -- the end of the confli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haracter Analysis of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iz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Rainsfor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insfor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2362320"/>
            <a:ext cx="67820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ainsford doesn’t view hunting animals as mur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animals don’t understand f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 says that Zaroff is a murderer because he hunts people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Direct characteriza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in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nell uses direct characterization to develop Zaroff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aroff is either evil or animalisti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ck black eyebrows and pointed black moustache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lack, bright ey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ad black eyes (pg. 23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ious, red-lipped smile (18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Impact"/>
              </a:rPr>
              <a:t>Textual Analysis Terms and Definitions</a:t>
            </a:r>
            <a:endParaRPr b="0" lang="en-US" sz="6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lish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ug. 2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8:00:12Z</dcterms:created>
  <dc:creator>Cumberland County Schools</dc:creator>
  <dc:description/>
  <dc:language>en-US</dc:language>
  <cp:lastModifiedBy>Angie McCall</cp:lastModifiedBy>
  <dcterms:modified xsi:type="dcterms:W3CDTF">2011-08-24T19:19:44Z</dcterms:modified>
  <cp:revision>24</cp:revision>
  <dc:subject/>
  <dc:title>“The Most Dangerous Game” by Richard Connell</dc:title>
</cp:coreProperties>
</file>